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711-0181-4DA8-B8CE-0605A77E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8A4-A9EE-4914-B7BC-4E025866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4A4-CFD3-46F9-B725-F98611FB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7D4-963E-47A2-9561-B4395E10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D174-D5F1-443F-BFEE-2746384C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F384-E005-4AD3-B128-AC64316E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77E3-CF0D-4D50-BED1-405C1CE0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4002-A893-4D94-B8D3-8B81962B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7AD4-23D1-44FE-B83F-CACD64C5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0B62-5871-4107-BE43-89231E3C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B969-A54D-4AA7-A6D0-C577B83E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B70-9C67-4B53-83CF-78B82A1B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11A3-88AC-4B6B-8670-4D853022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BD41-B2E6-47F1-BEF4-31C9A742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DDAC-39A1-4343-981D-51B14E62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0B58-B1F8-4111-93AC-3CDE55FE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A7BF-4466-41A9-96B1-7748E288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34FC6-6FDA-4F91-8A54-FE9AE869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FE96D-1FC4-48BF-AFB7-BA65AEDC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DD966-2966-40E5-B9AF-B142B1D8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2CBCF-663E-4BEE-8451-2402AC76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E8B02-B7A8-49AF-8233-4A6151A3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290-C8C5-4950-93A2-E6672D73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600FA-66B5-417F-A252-562FD138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15A01-2748-4E08-8D9F-D25FC5D6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F0C61-3571-4C48-9950-2980E6E6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71A77-38F3-477E-830C-BFFC7EE1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8A5B4-D65B-41F0-86BF-17E53F65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C21A3-4081-4D0A-B173-6126D95A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3F8E9-C809-4CA7-86CF-F2E38E15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97637-E142-4DFF-98FD-DA68A68F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E8448-7471-44A8-AAA8-09C48E9F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6685-6FA4-4752-A1AD-2D5B2394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58C-96F2-48F7-992F-1F291351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09BF4-AC6C-4BB0-A6DD-9C24DC71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EA82D-92E5-4D4F-BB0B-A61BDF88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D4719-732D-437A-BD9A-88F77DD4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35338-9ECC-4CC1-A521-264BC04A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BBBB2-B376-4B67-B4A5-AE45B24E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BEF94-AFF2-4BE8-B53A-ADC928C7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4915-5CB7-4FF0-903F-BF3936CD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D916-B21E-431F-91DE-CE48C2E8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1A33-1844-4CFD-8639-A36DD043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69624-222F-4A13-81DF-53709C57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F42-8176-4EFA-817F-0B46EA4A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0BD0D-7A1E-4F60-9549-CDAB5F78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6BEB8-8A7A-466F-B34C-9D714929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2D05E-B073-4FDB-B7F0-60097A12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BEAA5-82D9-4FEA-BAEF-A4026C2D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85EFF-6C18-437A-9F63-13BA00D7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C3618-5A8D-4258-B3BB-13DB1187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4021E-B1D9-43B8-9BBE-678E35CB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5A071-992B-4EAB-9965-D61535EA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66AE2-04F8-42F6-951F-FD4FF9E4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5F9A6-23BE-49CD-B1D9-9135B438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760-8B70-4CB7-AF2E-E0CD52DE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F8BB9-3316-43F6-B136-6575E6C8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3CE67-0274-4490-A8F7-B667DA42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051229-D72A-4FEA-8E8D-B6DA990B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2BAB32-BADD-4366-BA4C-4AA544BA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11A50-2350-414A-8037-4C83235E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CC8A7-8716-43EB-97AE-9FDF4B45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036A7-4FDB-4E0D-B29F-039F0BD5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E27C0-3393-437F-B50C-0163C834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62AF3-8B3B-4431-ACE6-D85CE1F5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750BE2-85EB-463D-95B8-629D9832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118-1D14-4282-AF29-8000652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B0B57-02A3-492C-8406-35A71931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DB590-ADF7-42D2-966B-426A4F8C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8C95F-04B8-4F63-99DA-E8D4E7E8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A6E4D-E2D2-49F7-99AE-E7629F94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BFE57-3C07-486F-A65D-6AF42F69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63D63-C433-4713-BA13-315210D1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5D34C-06DB-45DE-8150-4BD18F05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FF771-98CF-472D-BF22-B764FEE4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3F46BC-8BA0-4A08-97C1-362925C2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E64DB-6891-4CFD-8886-74E743C9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BF8-7F5D-445F-B08D-7F160620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00EAE-D3C7-4B8D-8C05-E19099BA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5EF9D3-12BF-46BC-8210-DA1FAA63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47633-EE23-4981-B1EB-79EB8B53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E7C53-ABBC-405F-B757-B94A939F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D9A45-BF83-484A-B321-C2E7755A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091CE-3AAD-45B0-8477-342A15D0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4CC1C-55C0-4A68-9DBE-97F03511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996A5-F29D-43D0-AE2E-D5F567B0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47F52-49CB-49C0-891E-2174FDD5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7406A-E386-4971-B01E-C606DBC8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C9D-8EC3-427E-9B1C-25D9E40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01132-88F2-434E-91D1-33C2FD44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D258C-907A-4E39-A929-27097CA3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443C5-9AC6-44F9-BE27-94C354C5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3A732-D996-48B6-BAE7-19F0CA79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705DA-02A3-4D0C-9571-7AEAAA69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5A0E2-6648-41FA-B4C1-36D7BEBE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DBA54-82EF-4331-8483-6B35FE9A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C6E6-579C-437C-818E-9E1EAC7E9D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A15C-FC81-4E23-A55B-C3BAB607D2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1103-500F-43D0-A780-4E7020B4F8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71D4-F8D0-475D-B17E-326E373EB8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5769-F359-4F89-8301-84A6028BA3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815-7060-444D-A07B-1A3DDA1FE3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951B-61B3-4E40-9FDF-0C73A4C06D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FFE0-74EA-496A-88B1-D561899302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GASES &amp; </a:t>
            </a:r>
            <a:br>
              <a:rPr sz="4400"/>
            </a:b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TEMPERATURE CHANG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Picture 5" descr="thermometer"/>
          <p:cNvPicPr/>
          <p:nvPr/>
        </p:nvPicPr>
        <p:blipFill>
          <a:blip r:embed="rId1"/>
          <a:stretch/>
        </p:blipFill>
        <p:spPr>
          <a:xfrm>
            <a:off x="5715000" y="838080"/>
            <a:ext cx="1581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AY-LUSSAC’S LA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7" name="il_fi" descr=""/>
          <p:cNvPicPr/>
          <p:nvPr/>
        </p:nvPicPr>
        <p:blipFill>
          <a:blip r:embed="rId1"/>
          <a:stretch/>
        </p:blipFill>
        <p:spPr>
          <a:xfrm>
            <a:off x="0" y="4191120"/>
            <a:ext cx="3162240" cy="2371680"/>
          </a:xfrm>
          <a:prstGeom prst="rect">
            <a:avLst/>
          </a:prstGeom>
          <a:ln w="0">
            <a:noFill/>
          </a:ln>
        </p:spPr>
      </p:pic>
      <p:pic>
        <p:nvPicPr>
          <p:cNvPr id="428" name="il_fi" descr=""/>
          <p:cNvPicPr/>
          <p:nvPr/>
        </p:nvPicPr>
        <p:blipFill>
          <a:blip r:embed="rId2"/>
          <a:stretch/>
        </p:blipFill>
        <p:spPr>
          <a:xfrm>
            <a:off x="3657600" y="3844800"/>
            <a:ext cx="4648320" cy="30132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xplained by the kinetic molecular theo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As temperature of a gas increases, the molecules move at higher speeds (have more kinetic energy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More energy means they collide with the walls of the container more frequently and with greater force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As a result, the pressure increases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Higher </a:t>
            </a:r>
            <a:r>
              <a:rPr b="0" i="1" lang="en-CA" sz="2100" spc="-1" strike="noStrike">
                <a:solidFill>
                  <a:srgbClr val="000000"/>
                </a:solidFill>
                <a:latin typeface="Century Schoolbook"/>
              </a:rPr>
              <a:t>temperature = more collisions with walls of container = more pressure</a:t>
            </a: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.  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116520" cy="2907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3695760" y="2833560"/>
            <a:ext cx="3467160" cy="24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바탕"/>
              </a:rPr>
              <a:t>As the air inside the kernels heats up, it increases in pressure, making the popcorn suddenly burs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#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sealed storage tank contains carbon dioxide at 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 and a pressure of 890 kPa at night. What is the new pressure if the tank and its contents warm to 3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 during the day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=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890 kP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 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3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89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=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P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936kP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?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93    30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ssigned Work! </a:t>
            </a:r>
            <a:r>
              <a:rPr b="0" lang="en-US" sz="3000" spc="-1" strike="noStrike">
                <a:solidFill>
                  <a:srgbClr val="575f6d"/>
                </a:solidFill>
                <a:latin typeface="Wingdings"/>
                <a:ea typeface="Wingdings"/>
              </a:rPr>
              <a:t>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533160" y="16765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ge 446 of text #5-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ge 449 of text #13-1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ge 451 of text # 2 -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ELVIN SCALE &amp; ABSOLUTE ZER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rles discovered that no matter the gas, the x-intercept would always be 0 K or -27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lvin reasoned that at this T, molecular motion would cease (KE = 0 &amp;   V =0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l gases do have volume &amp; would liqueify at this 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rcRect l="1318" t="0" r="0" b="0"/>
          <a:stretch/>
        </p:blipFill>
        <p:spPr>
          <a:xfrm>
            <a:off x="4419720" y="1828800"/>
            <a:ext cx="4343400" cy="2674800"/>
          </a:xfrm>
          <a:prstGeom prst="rect">
            <a:avLst/>
          </a:prstGeom>
          <a:ln w="0">
            <a:noFill/>
          </a:ln>
        </p:spPr>
      </p:pic>
      <p:sp>
        <p:nvSpPr>
          <p:cNvPr id="404" name="Line 7"/>
          <p:cNvSpPr/>
          <p:nvPr/>
        </p:nvSpPr>
        <p:spPr>
          <a:xfrm flipH="1" flipV="1">
            <a:off x="5059440" y="4038120"/>
            <a:ext cx="4572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334120" y="5181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RLES’ LA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The volume of a fixed mass of gas is proportional to its temperature when the pressure is kept consta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=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T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1981080" y="3032280"/>
            <a:ext cx="24386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DEMO #1: TO GROW OR TO SHRINK?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you explain what is happening &amp; why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ll out your predict/explain – observe/explain card &amp; share with shoulder partn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4" descr="balloon"/>
          <p:cNvPicPr/>
          <p:nvPr/>
        </p:nvPicPr>
        <p:blipFill>
          <a:blip r:embed="rId1"/>
          <a:stretch/>
        </p:blipFill>
        <p:spPr>
          <a:xfrm rot="1147200">
            <a:off x="3962520" y="3429000"/>
            <a:ext cx="2415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Relationship to KM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s temperature increases, volume of a gas 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A greater force means they exert a greater pressure on the walls of the contain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ncreas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the molecules move at higher speeds (have more kinetic energy).</a:t>
            </a: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they collide with the walls of the container and with one another more frequently and with greater forc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entury Schoolbook"/>
              </a:rPr>
              <a:t>If the external pressure on the gas stays the same, the gas pressure (on the inside) causes the container to increase in size (volume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100" spc="-1" strike="noStrike">
                <a:solidFill>
                  <a:srgbClr val="000000"/>
                </a:solidFill>
                <a:latin typeface="Century Schoolbook"/>
              </a:rPr>
              <a:t>More temperature = more energy = more collisions = expans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575f6d"/>
                </a:solidFill>
                <a:latin typeface="Century Schoolbook"/>
              </a:rPr>
              <a:t>Charles Law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5" name="il_fi" descr=""/>
          <p:cNvPicPr/>
          <p:nvPr/>
        </p:nvPicPr>
        <p:blipFill>
          <a:blip r:embed="rId1"/>
          <a:stretch/>
        </p:blipFill>
        <p:spPr>
          <a:xfrm>
            <a:off x="0" y="3657600"/>
            <a:ext cx="3716280" cy="2787480"/>
          </a:xfrm>
          <a:prstGeom prst="rect">
            <a:avLst/>
          </a:prstGeom>
          <a:ln w="0">
            <a:noFill/>
          </a:ln>
        </p:spPr>
      </p:pic>
      <p:pic>
        <p:nvPicPr>
          <p:cNvPr id="416" name="il_fi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2872080" cy="2529000"/>
          </a:xfrm>
          <a:prstGeom prst="rect">
            <a:avLst/>
          </a:prstGeom>
          <a:ln w="0">
            <a:noFill/>
          </a:ln>
        </p:spPr>
      </p:pic>
      <p:pic>
        <p:nvPicPr>
          <p:cNvPr id="417" name="il_fi" descr=""/>
          <p:cNvPicPr/>
          <p:nvPr/>
        </p:nvPicPr>
        <p:blipFill>
          <a:blip r:embed="rId3"/>
          <a:stretch/>
        </p:blipFill>
        <p:spPr>
          <a:xfrm>
            <a:off x="6248520" y="4495680"/>
            <a:ext cx="247644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#1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gas piston is heated to 3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. The volume of the gas in the cylinder is 0.5L at 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. What is the final volume when the temperature is 3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0.5 L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3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 = 303 K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=  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?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0.5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30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 = 573 K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03     57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0.95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AY-LUSSAC’S LA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ressure of a fixed amount of gas, at constant volume, is directly proportional to its Kelvin temperatu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=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T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1981080" y="2987640"/>
            <a:ext cx="2210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DEMO #2: HOW STRONG ARE YOU?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you explain what is happening &amp; why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ll out your predict/explain – observe/explain card &amp; share with shoulder partn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4" descr="pop can"/>
          <p:cNvPicPr/>
          <p:nvPr/>
        </p:nvPicPr>
        <p:blipFill>
          <a:blip r:embed="rId1"/>
          <a:stretch/>
        </p:blipFill>
        <p:spPr>
          <a:xfrm>
            <a:off x="6400800" y="2971800"/>
            <a:ext cx="18129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2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2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1:30:26Z</dcterms:created>
  <dc:creator>End User</dc:creator>
  <dc:description/>
  <dc:language>en-US</dc:language>
  <cp:lastModifiedBy>Natalya</cp:lastModifiedBy>
  <dcterms:modified xsi:type="dcterms:W3CDTF">2011-12-21T13:53:58Z</dcterms:modified>
  <cp:revision>17</cp:revision>
  <dc:subject/>
  <dc:title>Gases &amp; Temperature Change</dc:title>
</cp:coreProperties>
</file>